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tif" ContentType="image/tif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9363075" cy="7077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FB0486-5DEC-4B01-AE69-D194A46EF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0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84A868-EF79-4942-89FC-F4ACEA00AC18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9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D6E8AE-027D-4DB2-8935-ADBA861EE635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20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BF3B48-0AFE-4DCF-B917-829D45E74D83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913120" y="9216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61080" y="2818440"/>
            <a:ext cx="8712720" cy="4032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21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13C4E6-856C-49B2-A366-190D74BBFB45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22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9261B6-CAA9-4D13-981E-1D8D100370C5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11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7DA038-BD9D-48F4-9F00-A1433480457A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633440" cy="3344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A180C4-6EBD-409E-9ED0-C200602E1750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3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167B18-DC0D-4CFF-B427-CC8F2301143D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4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24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FCC9B5-6069-40A7-A8F9-E5F4054680ED}" type="slidenum">
              <a:rPr b="0" lang="en-CA" sz="24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5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CACA83-6F96-4CA0-A26B-4EC836B6FE24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793080" y="4420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583640" y="2818440"/>
            <a:ext cx="7490160" cy="4032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6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13B240-AB61-45DC-A611-2735141C1765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7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2CFAE6-D664-46F7-853D-3CA3C0179A0F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8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220063-E935-4C65-994B-A7DFA15A4CAA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5D6-7978-4CF5-BD00-C4EF1D3F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995-0A95-4891-9282-D3287484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924-7A96-457F-BE3F-F4B18FB9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9FB-8592-450B-B4FF-73DC2F0B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57AB-F88F-456F-8B6A-807BF931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8B9C-1522-4986-A580-1CCF2854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4E05-5384-4825-94AE-7FC01BE3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C25E-E849-4424-A813-AAD0B322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5597-0063-4FF8-A118-EA6B84A4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3B34-4060-4352-9F75-DB61E4A9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0F62-55B0-4EE4-A769-8258BC48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9CA-19C3-4B1E-AE41-163927A3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3A84-EE6C-429E-9843-394AF062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D70C-EAF7-4D33-89B5-CA4EF60E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E055-8925-43BF-A9A2-8A60D75B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703C-C84D-478A-A66D-35B467C7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E492-5066-4791-93E8-09237C6C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D13-D840-478D-88FF-461977B0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E47-B0DB-4E35-A34C-446EB4E9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EFE-2207-442F-AC1B-617EAB8F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BDE-A95E-4B14-80F0-BDFAE640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237-F5B4-4B18-A5B6-3521F561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5A5-C5C0-4A1C-932B-9F8CE07A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7D0-C845-4FE6-8F41-32A171CF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C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662834-9DAA-4CD7-863B-08FD7A5E47AC}" type="slidenum">
              <a:rPr b="0" lang="en-C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C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29CB2C-760D-4CC4-9F7D-CD40E4719B58}" type="slidenum">
              <a:rPr b="0" lang="en-C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7640" y="105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7200" spc="-1" strike="noStrike">
                <a:solidFill>
                  <a:srgbClr val="000000"/>
                </a:solidFill>
                <a:latin typeface="Calibri"/>
              </a:rPr>
              <a:t>Youth Rights in Canad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640" y="3069000"/>
            <a:ext cx="8229240" cy="7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Julia Ma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OCASI – the Ontario Council of Agencies Serving Immigra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jmais\Documents\Summer Student\Youth Project\Presentation\mental health.jpg"/>
          <p:cNvPicPr/>
          <p:nvPr/>
        </p:nvPicPr>
        <p:blipFill>
          <a:blip r:embed="rId1"/>
          <a:stretch/>
        </p:blipFill>
        <p:spPr>
          <a:xfrm>
            <a:off x="2195640" y="2129040"/>
            <a:ext cx="518436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ill C-31: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“Making Canada's Asylum System Faster and Fairer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mmigrant and Refugee Board (IRB) hea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esignated Countries of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rregular arrival prov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gg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upporting colleagues in th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llaboration between s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Youth specific settlement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cognizing context and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99640" y="2925000"/>
            <a:ext cx="691236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Questions/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Julia M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jmais@ocasi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11640" y="946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395640" y="1340640"/>
            <a:ext cx="82292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61"/>
              </a:spcBef>
              <a:tabLst>
                <a:tab algn="l" pos="0"/>
              </a:tabLst>
            </a:pPr>
            <a:endParaRPr b="0" lang="en-CA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jmais\Downloads\ocasi_logo.png"/>
          <p:cNvPicPr/>
          <p:nvPr/>
        </p:nvPicPr>
        <p:blipFill>
          <a:blip r:embed="rId1"/>
          <a:stretch/>
        </p:blipFill>
        <p:spPr>
          <a:xfrm>
            <a:off x="1160640" y="2061000"/>
            <a:ext cx="672804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 Conven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Rights of the Chi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7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vention details basic human rights that children everywhere hav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right to survival; to develop to the fullest; to protection from harmful influences, abuse and exploitation; and to participate fully in family, cultural and social lif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C:\Users\jmais\Documents\Summer Student\Youth Project\Presentation\normal_kids_classroom.jpg"/>
          <p:cNvPicPr/>
          <p:nvPr/>
        </p:nvPicPr>
        <p:blipFill>
          <a:blip r:embed="rId1"/>
          <a:stretch/>
        </p:blipFill>
        <p:spPr>
          <a:xfrm>
            <a:off x="1835640" y="1989000"/>
            <a:ext cx="5567400" cy="37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7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-secondary education financially prohib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aming in grade school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E.S.L. graduation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amily Separ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jmais\Documents\Summer Student\Youth Project\Presentation\normal_Generic_Father_and_Son.jpg"/>
          <p:cNvPicPr/>
          <p:nvPr/>
        </p:nvPicPr>
        <p:blipFill>
          <a:blip r:embed="rId1"/>
          <a:stretch/>
        </p:blipFill>
        <p:spPr>
          <a:xfrm>
            <a:off x="2051640" y="2133000"/>
            <a:ext cx="4980600" cy="33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7640" y="1845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ccompanied minor unable to include parents and siblings in permanent residency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even sponsorship wait times across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of Live-in Caregivers separated from fami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eal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jmais\Documents\Summer Student\Youth Project\Presentation\sick child.jpg"/>
          <p:cNvPicPr/>
          <p:nvPr/>
        </p:nvPicPr>
        <p:blipFill>
          <a:blip r:embed="rId1"/>
          <a:stretch/>
        </p:blipFill>
        <p:spPr>
          <a:xfrm>
            <a:off x="2051640" y="2061000"/>
            <a:ext cx="5067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7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al and physical health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im Federal Health (IFH) c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IP three month wait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  <Words>166</Word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9:27:32Z</dcterms:created>
  <dc:creator>dmontague</dc:creator>
  <dc:description/>
  <dc:language>en-US</dc:language>
  <cp:lastModifiedBy>Lorraine Hudson</cp:lastModifiedBy>
  <dcterms:modified xsi:type="dcterms:W3CDTF">2013-01-03T20:01:42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On-screen Show (4:3)</vt:lpwstr>
  </property>
  <property fmtid="{D5CDD505-2E9C-101B-9397-08002B2CF9AE}" pid="4" name="Slides">
    <vt:r8>13</vt:r8>
  </property>
</Properties>
</file>